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176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77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8"/>
          </p:nvPr>
        </p:nvSpPr>
        <p:spPr>
          <a:xfrm>
            <a:off x="-36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2920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2608FB6-9730-4FB4-B91D-DD9AD2579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77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spatial data is a good metaphor for textual data, and might be useful for informing the study of text-based data hand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distinct parallels between RDBMS, text IR and GIS, which all co-evolved in 1960s and 70s.  The computational methods and paradigms are identica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77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IR began with results from 2 national elections and a complete set of 1:250,000 topographic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ata is being converted into useful GIS 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participation was designed to make a concrete contribution to the proje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document the digitization process (make a man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make design recommend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77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IR is currently housed in the Russian Language section of the library.  Chief workers are a 25% systems librarian, 2 volunteer geographers, and 1 work-study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izing is performed by the work-study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, edge-matching, topology creation, and data integration is done by the geograp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librarian is designing the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14600"/>
            <a:ext cx="50277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kflow recommend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ed up the conversion of paper ma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ign written guide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in intermediate staff for error correction and edge match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ign demographic database concurren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QL server over Arc S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ve tabular election data straight into 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iminates intermediate st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l with anomalies rather than manually handling individual files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de on scale to determine hardware / software / financial parame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+ fte, 1+ year design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opt the Arc SD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s of an issue now that a year has gone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o will be responsible for CEI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manities Research Labora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avic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efully plan for other forma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phics, video,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33AD-48BB-45E2-9C14-49E40FCA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D231-7DF7-4B29-A6F4-38D4457A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DB5A-A539-4988-ACAE-E12E3A1A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D919-FA58-4B5B-88F8-0C891A25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86D1-802D-4E09-AC34-3DF1C6A2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EBA0-C4AE-450D-9214-4398476F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832D-026C-43FF-81C5-6D7E6D36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282E-892F-4AB5-A0E4-F462484A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49BF-662D-4100-8F7F-D487840E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0DBB-B77F-46AD-8654-9FEF4424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FDB5-8AE3-42A6-A4E8-8D49B030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D00-2B65-424A-8575-0B2C69DC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D9D3-FC3C-4CE5-AFB4-DB76E052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AD23-99D4-4F1B-817E-4F2FCBBF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DD33-16EB-40EA-B9AB-5C0E5EB3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F659-35EB-46E2-8212-FA7E1FE4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1236-62AC-4722-A822-40D43B28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390F-D0C5-45DC-B9A0-3998D2C5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19B1-64B8-41AD-B157-D7914F72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1AC-C6A4-467C-859D-780B218A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E176-D96B-434E-BD3C-1CECCC61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5493-0822-49F1-8BCF-4DDF6E4E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D02B-B321-4B53-B780-B585BDDB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54F7-9E2E-4509-8535-5A0CFC89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0A21-B16E-4E2B-B8F4-BC24002E2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132B-1F78-4FA0-9EBD-80761AFD7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4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28600" y="76320"/>
            <a:ext cx="670572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52280" y="4876920"/>
            <a:ext cx="57913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Map / GIS Librarian Presentation</a:t>
            </a:r>
            <a:br>
              <a:rPr sz="2800"/>
            </a:b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University of Tennessee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943600" y="5410080"/>
            <a:ext cx="304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on Jablon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Information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Washing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693200" y="640080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10, 200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6553080" cy="5056200"/>
          </a:xfrm>
          <a:prstGeom prst="rect">
            <a:avLst/>
          </a:prstGeom>
          <a:ln w="0">
            <a:noFill/>
          </a:ln>
        </p:spPr>
      </p:pic>
      <p:grpSp>
        <p:nvGrpSpPr>
          <p:cNvPr id="336" name=""/>
          <p:cNvGrpSpPr/>
          <p:nvPr/>
        </p:nvGrpSpPr>
        <p:grpSpPr>
          <a:xfrm>
            <a:off x="7086240" y="1457280"/>
            <a:ext cx="843480" cy="1590120"/>
            <a:chOff x="7086240" y="1457280"/>
            <a:chExt cx="843480" cy="1590120"/>
          </a:xfrm>
        </p:grpSpPr>
        <p:sp>
          <p:nvSpPr>
            <p:cNvPr id="337" name=""/>
            <p:cNvSpPr/>
            <p:nvPr/>
          </p:nvSpPr>
          <p:spPr>
            <a:xfrm>
              <a:off x="7086240" y="1457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51040" y="1457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19440" y="1457280"/>
              <a:ext cx="34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47160" y="1457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79920" y="1457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50120" y="14572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424640" y="14572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00960" y="14572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72960" y="14572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616520" y="14572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89600" y="14572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763760" y="145728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11640" y="1457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86600" y="1612800"/>
              <a:ext cx="284040" cy="144720"/>
            </a:xfrm>
            <a:custGeom>
              <a:avLst/>
              <a:gdLst/>
              <a:ahLst/>
              <a:rect l="l" t="t" r="r" b="b"/>
              <a:pathLst>
                <a:path w="179" h="91">
                  <a:moveTo>
                    <a:pt x="0" y="91"/>
                  </a:moveTo>
                  <a:lnTo>
                    <a:pt x="61" y="0"/>
                  </a:lnTo>
                  <a:lnTo>
                    <a:pt x="120" y="91"/>
                  </a:lnTo>
                  <a:lnTo>
                    <a:pt x="179" y="0"/>
                  </a:lnTo>
                </a:path>
              </a:pathLst>
            </a:custGeom>
            <a:noFill/>
            <a:ln w="3240">
              <a:solidFill>
                <a:srgbClr val="ffec8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06640" y="1601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71080" y="1601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07800" y="1601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47400" y="1601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79800" y="1601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649640" y="1601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86600" y="1757520"/>
              <a:ext cx="284040" cy="141120"/>
            </a:xfrm>
            <a:custGeom>
              <a:avLst/>
              <a:gdLst/>
              <a:ahLst/>
              <a:rect l="l" t="t" r="r" b="b"/>
              <a:pathLst>
                <a:path w="179" h="89">
                  <a:moveTo>
                    <a:pt x="0" y="89"/>
                  </a:moveTo>
                  <a:lnTo>
                    <a:pt x="61" y="0"/>
                  </a:lnTo>
                  <a:lnTo>
                    <a:pt x="120" y="89"/>
                  </a:lnTo>
                  <a:lnTo>
                    <a:pt x="179" y="0"/>
                  </a:lnTo>
                </a:path>
              </a:pathLst>
            </a:custGeom>
            <a:noFill/>
            <a:ln w="3240">
              <a:solidFill>
                <a:srgbClr val="fec87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06640" y="1743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471800" y="1743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39480" y="1743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72960" y="17431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15440" y="1743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49640" y="1743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718040" y="1743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86600" y="1898640"/>
              <a:ext cx="284040" cy="141120"/>
            </a:xfrm>
            <a:custGeom>
              <a:avLst/>
              <a:gdLst/>
              <a:ahLst/>
              <a:rect l="l" t="t" r="r" b="b"/>
              <a:pathLst>
                <a:path w="179" h="89">
                  <a:moveTo>
                    <a:pt x="0" y="89"/>
                  </a:moveTo>
                  <a:lnTo>
                    <a:pt x="61" y="0"/>
                  </a:lnTo>
                  <a:lnTo>
                    <a:pt x="120" y="89"/>
                  </a:lnTo>
                  <a:lnTo>
                    <a:pt x="179" y="0"/>
                  </a:lnTo>
                </a:path>
              </a:pathLst>
            </a:custGeom>
            <a:noFill/>
            <a:ln w="3240">
              <a:solidFill>
                <a:srgbClr val="eec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406640" y="1887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71800" y="1887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39480" y="1887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572960" y="18874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15440" y="1887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649640" y="1887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18040" y="1887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83200" y="18874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86600" y="2039760"/>
              <a:ext cx="284040" cy="144720"/>
            </a:xfrm>
            <a:custGeom>
              <a:avLst/>
              <a:gdLst/>
              <a:ahLst/>
              <a:rect l="l" t="t" r="r" b="b"/>
              <a:pathLst>
                <a:path w="179" h="91">
                  <a:moveTo>
                    <a:pt x="0" y="91"/>
                  </a:moveTo>
                  <a:lnTo>
                    <a:pt x="61" y="0"/>
                  </a:lnTo>
                  <a:lnTo>
                    <a:pt x="120" y="91"/>
                  </a:lnTo>
                  <a:lnTo>
                    <a:pt x="179" y="0"/>
                  </a:lnTo>
                </a:path>
              </a:pathLst>
            </a:custGeom>
            <a:noFill/>
            <a:ln w="3240">
              <a:solidFill>
                <a:srgbClr val="cda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06640" y="2027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71800" y="2027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40200" y="2027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07520" y="2027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641360" y="2027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80600" y="2027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718040" y="2027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783200" y="2027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51240" y="2027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086600" y="2184480"/>
              <a:ext cx="284040" cy="139680"/>
            </a:xfrm>
            <a:custGeom>
              <a:avLst/>
              <a:gdLst/>
              <a:ahLst/>
              <a:rect l="l" t="t" r="r" b="b"/>
              <a:pathLst>
                <a:path w="179" h="88">
                  <a:moveTo>
                    <a:pt x="0" y="88"/>
                  </a:moveTo>
                  <a:lnTo>
                    <a:pt x="61" y="0"/>
                  </a:lnTo>
                  <a:lnTo>
                    <a:pt x="120" y="88"/>
                  </a:lnTo>
                  <a:lnTo>
                    <a:pt x="179" y="0"/>
                  </a:lnTo>
                </a:path>
              </a:pathLst>
            </a:custGeom>
            <a:noFill/>
            <a:ln w="3240">
              <a:solidFill>
                <a:srgbClr val="a2cd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406640" y="2168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471800" y="2168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40200" y="2168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607520" y="2168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641360" y="2168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680600" y="2168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18040" y="2168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783200" y="2168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851240" y="2168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86600" y="2324160"/>
              <a:ext cx="284040" cy="144360"/>
            </a:xfrm>
            <a:custGeom>
              <a:avLst/>
              <a:gdLst/>
              <a:ahLst/>
              <a:rect l="l" t="t" r="r" b="b"/>
              <a:pathLst>
                <a:path w="179" h="91">
                  <a:moveTo>
                    <a:pt x="0" y="91"/>
                  </a:moveTo>
                  <a:lnTo>
                    <a:pt x="61" y="0"/>
                  </a:lnTo>
                  <a:lnTo>
                    <a:pt x="120" y="91"/>
                  </a:lnTo>
                  <a:lnTo>
                    <a:pt x="179" y="0"/>
                  </a:lnTo>
                </a:path>
              </a:pathLst>
            </a:custGeom>
            <a:noFill/>
            <a:ln w="3240">
              <a:solidFill>
                <a:srgbClr val="9acd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06640" y="2313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471800" y="2313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40200" y="2313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07520" y="2313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41360" y="23130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80600" y="2313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718040" y="2313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83200" y="2313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851240" y="2313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086600" y="2468520"/>
              <a:ext cx="284040" cy="141480"/>
            </a:xfrm>
            <a:custGeom>
              <a:avLst/>
              <a:gdLst/>
              <a:ahLst/>
              <a:rect l="l" t="t" r="r" b="b"/>
              <a:pathLst>
                <a:path w="179" h="89">
                  <a:moveTo>
                    <a:pt x="0" y="89"/>
                  </a:moveTo>
                  <a:lnTo>
                    <a:pt x="61" y="0"/>
                  </a:lnTo>
                  <a:lnTo>
                    <a:pt x="120" y="89"/>
                  </a:lnTo>
                  <a:lnTo>
                    <a:pt x="179" y="0"/>
                  </a:lnTo>
                </a:path>
              </a:pathLst>
            </a:custGeom>
            <a:noFill/>
            <a:ln w="3240">
              <a:solidFill>
                <a:srgbClr val="00c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06640" y="2454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71800" y="2454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40200" y="2454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07520" y="2454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41360" y="24541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80600" y="2454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18040" y="2454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83200" y="2454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851240" y="2454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86600" y="2610000"/>
              <a:ext cx="284040" cy="141120"/>
            </a:xfrm>
            <a:custGeom>
              <a:avLst/>
              <a:gdLst/>
              <a:ahLst/>
              <a:rect l="l" t="t" r="r" b="b"/>
              <a:pathLst>
                <a:path w="179" h="89">
                  <a:moveTo>
                    <a:pt x="0" y="89"/>
                  </a:moveTo>
                  <a:lnTo>
                    <a:pt x="61" y="0"/>
                  </a:lnTo>
                  <a:lnTo>
                    <a:pt x="120" y="89"/>
                  </a:lnTo>
                  <a:lnTo>
                    <a:pt x="179" y="0"/>
                  </a:lnTo>
                </a:path>
              </a:pathLst>
            </a:custGeom>
            <a:noFill/>
            <a:ln w="3240">
              <a:solidFill>
                <a:srgbClr val="7a8a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406640" y="2593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71800" y="2593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0200" y="2593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07520" y="25938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41360" y="25938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80600" y="25938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718040" y="2593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783200" y="2593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51240" y="25938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86600" y="2751120"/>
              <a:ext cx="284040" cy="144360"/>
            </a:xfrm>
            <a:custGeom>
              <a:avLst/>
              <a:gdLst/>
              <a:ahLst/>
              <a:rect l="l" t="t" r="r" b="b"/>
              <a:pathLst>
                <a:path w="179" h="91">
                  <a:moveTo>
                    <a:pt x="0" y="91"/>
                  </a:moveTo>
                  <a:lnTo>
                    <a:pt x="61" y="0"/>
                  </a:lnTo>
                  <a:lnTo>
                    <a:pt x="120" y="91"/>
                  </a:lnTo>
                  <a:lnTo>
                    <a:pt x="179" y="0"/>
                  </a:lnTo>
                </a:path>
              </a:pathLst>
            </a:custGeom>
            <a:noFill/>
            <a:ln w="3240">
              <a:solidFill>
                <a:srgbClr val="018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06640" y="2738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71800" y="2738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0200" y="2738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07520" y="27385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41360" y="27385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80600" y="27385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18040" y="2738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783200" y="2738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51240" y="2738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86600" y="2895480"/>
              <a:ext cx="284040" cy="139680"/>
            </a:xfrm>
            <a:custGeom>
              <a:avLst/>
              <a:gdLst/>
              <a:ahLst/>
              <a:rect l="l" t="t" r="r" b="b"/>
              <a:pathLst>
                <a:path w="179" h="88">
                  <a:moveTo>
                    <a:pt x="0" y="88"/>
                  </a:moveTo>
                  <a:lnTo>
                    <a:pt x="61" y="0"/>
                  </a:lnTo>
                  <a:lnTo>
                    <a:pt x="120" y="88"/>
                  </a:lnTo>
                  <a:lnTo>
                    <a:pt x="179" y="0"/>
                  </a:lnTo>
                </a:path>
              </a:pathLst>
            </a:custGeom>
            <a:noFill/>
            <a:ln w="3240">
              <a:solidFill>
                <a:srgbClr val="01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406640" y="2879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471800" y="2879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0200" y="2879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07520" y="2879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41360" y="28796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80600" y="2879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718040" y="2879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83200" y="2879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51240" y="2879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6950880" y="546120"/>
            <a:ext cx="211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6600"/>
                </a:solidFill>
                <a:latin typeface="Times New Roman"/>
              </a:rPr>
              <a:t>City of Seatt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6600"/>
                </a:solidFill>
                <a:latin typeface="Times New Roman"/>
              </a:rPr>
              <a:t>North of Lak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6600"/>
                </a:solidFill>
                <a:latin typeface="Times New Roman"/>
              </a:rPr>
              <a:t>Washington Ship Ca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dditional Inform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71240" y="18288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LIS portfolio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whatsgrowing.com/j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SzPct val="1350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cludes public version of CEIR repor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geographic analysi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students.washington.edu/jonjab/kitsap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SzPct val="1350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vironmental remediation in Kitsap Coun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IR prototype page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depts.washington.edu/reecas/atlas/ceir-1.ht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SzPct val="1350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dat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18960" y="685440"/>
            <a:ext cx="676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Library School Mapp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18960" y="2147760"/>
            <a:ext cx="708660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neaking suspic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spatial data = Textu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rmed by an independent stu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DBMS, text IR and GIS all handle data simila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Central Eurasian Information Resource (CEIR)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outgrowth of 2 UW doctoral disser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rning Russian paper maps into a data repository for thematic mapp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 contribu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 CEIR useful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ystems Design &amp; Analysis Persp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68580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cope of CEI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50" name="RussiaAdDivisions" descr=""/>
          <p:cNvPicPr/>
          <p:nvPr/>
        </p:nvPicPr>
        <p:blipFill>
          <a:blip r:embed="rId1"/>
          <a:stretch/>
        </p:blipFill>
        <p:spPr>
          <a:xfrm>
            <a:off x="1676520" y="1547640"/>
            <a:ext cx="7467480" cy="53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y involvemen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e through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workflow and make design recommend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e an obl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 two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 demographic and elec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sentially:  create a digital map from a paper o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380880" y="1171440"/>
            <a:ext cx="3417840" cy="35528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3200400" y="4095720"/>
            <a:ext cx="5791320" cy="25336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4724280" y="1752480"/>
            <a:ext cx="336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 indent="-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Layers Cre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ast, Rayon, &amp; Lake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v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lr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12000" y="5410080"/>
            <a:ext cx="22046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last = US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yon = US Cou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nd goal:  short ter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nline resource to produce the same sorts of thematic maps made in every introductory Cartography cour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5550120" y="514188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 pop by county map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4343400" y="2590920"/>
            <a:ext cx="495288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End Goal:  Long Ter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28600" y="1951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ine GIS data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ograph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stor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 and textual resources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6"/>
          <a:stretch/>
        </p:blipFill>
        <p:spPr>
          <a:xfrm>
            <a:off x="4114800" y="1905120"/>
            <a:ext cx="48006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18960" y="685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y recommendati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up conversion of paper map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database concurr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 tabular election data straight into 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 Initial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DE or not to S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ill CEIR liv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ly plan for expa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7T21:16:37Z</dcterms:created>
  <dc:creator>Information School</dc:creator>
  <dc:description/>
  <dc:language>en-US</dc:language>
  <cp:lastModifiedBy>Jon Jablonski</cp:lastModifiedBy>
  <dcterms:modified xsi:type="dcterms:W3CDTF">2002-05-09T05:07:36Z</dcterms:modified>
  <cp:revision>12</cp:revision>
  <dc:subject/>
  <dc:title>Slide 1</dc:title>
</cp:coreProperties>
</file>