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5ED-6C34-45C4-A170-565654BE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BD3-F50A-46A5-880A-BCEAC7E8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910-8EF5-41BE-9235-C53D4073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980-9BB5-4196-9526-21443844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4B4F-6DF6-430A-8D2F-9C51876B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3608-8552-49A8-AC37-6D85BD6F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514A-1B55-447F-95A3-3F495B4A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32A4-3379-4329-8820-8966194C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0D02-4369-4C4D-8CB9-A546E5A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9741-19BD-41F1-BA40-43D4F9E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45F5-6A23-4736-B5C1-C005BBE1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6F6-89B7-4B22-8E6D-5287515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936-EB4B-4840-B1E3-DB25A24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9DB7-4FBA-403D-B79D-8EA6EBA2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9B39-D7CC-42C8-B6D1-9F14D928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162E-97D9-4142-AD18-E4574C7C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3AA9-8181-41E0-8080-C5E5F5F3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788-5853-4178-B719-45CA03F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65F-BF2E-40E0-A3D0-8EE13D0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188-E107-4901-83AE-F9026BE0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00F-6131-4449-99AF-8D3DA23D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4C9-0AB3-40BB-9765-C034B99A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E38-7D9B-48FA-A92C-0D01FA9B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45A-5385-42B8-BB05-05EF4AD7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1C5A-F645-4987-B935-68B4675F247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52B6-4E3B-4BF7-911B-89BCAFA7C30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ytimes.com/learning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minfo.org/Workbench/Metadata" TargetMode="External"/><Relationship Id="rId2" Type="http://schemas.openxmlformats.org/officeDocument/2006/relationships/hyperlink" Target="http://www.geminfo.org/Workbench/Metadata" TargetMode="External"/><Relationship Id="rId3" Type="http://schemas.openxmlformats.org/officeDocument/2006/relationships/hyperlink" Target="http://www.geminfo.org/Workbench/Metadata" TargetMode="External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 Resource Description Frame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d its application to thegateway.or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ame approach for Statements about Statemen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0" lang="en-US" sz="1800" spc="-1" strike="noStrike" u="sng">
                <a:solidFill>
                  <a:srgbClr val="365d96"/>
                </a:solidFill>
                <a:uFillTx/>
                <a:latin typeface="Courier New"/>
                <a:hlinkClick r:id="rId1"/>
              </a:rPr>
              <a:t>http://www.nytimes.com/learning/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:value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Lesson Plan Archive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rdfs:label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gem:isChildOf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525"/>
                </a:solidFill>
                <a:latin typeface="Courier New"/>
              </a:rPr>
              <a:t>&lt;/dc:relation&gt;</a:t>
            </a: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rolled language &amp; encoding schem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rdf:Description rdf:about="s3"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gem:ERIC rdf:about="http://128.208.100.148/</a:t>
            </a:r>
            <a:br>
              <a:rPr sz="1600"/>
            </a:b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     thesauri/eric?Secondary_Education"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rdf:value&gt;Secondary Education&lt;/rdf:value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gem:ERIC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gem:recordcreated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gem:iso8601_1988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rdf:value&gt;1999-09-02T13:35:29-5:00&lt;/rdf:value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gem:iso8601_1988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2d2525"/>
                </a:solidFill>
                <a:latin typeface="Courier New"/>
              </a:rPr>
              <a:t>&lt;/gem:recordcreated&gt;</a:t>
            </a:r>
            <a:endParaRPr b="0" i="1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ventually, things get silly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parser from w3.or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Model and Syntax Specifica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Schema Specification 1.0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RDF homepag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Expressing Qualified Dublin Core in RDF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e Gateway to Educational Material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GEMinfo (about the Gateway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s presentation:  www.whatsgrowing.com/jon/docs/asis_rdf.pp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ere we’ll go…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rief tour of thegateway.org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urrent state of the project 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GEMcat 4.0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GEM2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DF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ww.thegateway.or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really big experiment in self-cataloging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consortial effort to provide a directory to quality educational materials on the web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3954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ehind the scenes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tent providers and consortium members catalog and embed 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egister URIs with GEM 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Harvester crawls the metadata, builds databas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00680" y="198108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M1 data is html meta tag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scriptors based on Dublin Core + GEM qualifier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www.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geminfo</a:t>
            </a:r>
            <a:r>
              <a:rPr b="0" i="1" lang="en-US" sz="2800" spc="-1" strike="noStrike" u="sng">
                <a:solidFill>
                  <a:srgbClr val="365d96"/>
                </a:solidFill>
                <a:uFillTx/>
                <a:latin typeface="Times New Roman"/>
                <a:hlinkClick r:id="rId3"/>
              </a:rPr>
              <a:t>.org/_x000b_Workbench/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Next steps: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5120" y="1981080"/>
            <a:ext cx="3124080" cy="1905120"/>
          </a:xfrm>
          <a:prstGeom prst="lightningBolt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mplement z39.50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Blue Ang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mplement new data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DF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elease new cataloging modul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EMcat 4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RDF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model for representing metadata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A syntax for encoding and transporting this metadat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3886200"/>
            <a:ext cx="7391160" cy="1451520"/>
            <a:chOff x="304920" y="3886200"/>
            <a:chExt cx="7391160" cy="1451520"/>
          </a:xfrm>
        </p:grpSpPr>
        <p:sp>
          <p:nvSpPr>
            <p:cNvPr id="104" name=""/>
            <p:cNvSpPr/>
            <p:nvPr/>
          </p:nvSpPr>
          <p:spPr>
            <a:xfrm>
              <a:off x="304920" y="4191120"/>
              <a:ext cx="3276360" cy="8380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3886200"/>
              <a:ext cx="1676160" cy="12952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value of 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the property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4610160"/>
              <a:ext cx="243864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1400" y="4343400"/>
              <a:ext cx="23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Stuff in the world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38480" y="4146480"/>
              <a:ext cx="13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property </a:t>
              </a:r>
              <a:br>
                <a:rPr sz="2400"/>
              </a:b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f stuff </a:t>
              </a:r>
              <a:br>
                <a:rPr sz="2400"/>
              </a:b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219320" y="5638680"/>
            <a:ext cx="6024240" cy="459720"/>
            <a:chOff x="1219320" y="5638680"/>
            <a:chExt cx="6024240" cy="459720"/>
          </a:xfrm>
        </p:grpSpPr>
        <p:grpSp>
          <p:nvGrpSpPr>
            <p:cNvPr id="110" name=""/>
            <p:cNvGrpSpPr/>
            <p:nvPr/>
          </p:nvGrpSpPr>
          <p:grpSpPr>
            <a:xfrm>
              <a:off x="1219320" y="5638680"/>
              <a:ext cx="3907440" cy="459720"/>
              <a:chOff x="1219320" y="5638680"/>
              <a:chExt cx="3907440" cy="459720"/>
            </a:xfrm>
          </p:grpSpPr>
          <p:sp>
            <p:nvSpPr>
              <p:cNvPr id="111" name=""/>
              <p:cNvSpPr/>
              <p:nvPr/>
            </p:nvSpPr>
            <p:spPr>
              <a:xfrm>
                <a:off x="1219320" y="5638680"/>
                <a:ext cx="109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Subject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9160" y="563868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d2525"/>
                    </a:solidFill>
                    <a:latin typeface="Times New Roman"/>
                  </a:rPr>
                  <a:t>Predicat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248880" y="56386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2525"/>
                  </a:solidFill>
                  <a:latin typeface="Times New Roman"/>
                </a:rPr>
                <a:t>Objec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o what does it look lik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rdf:Description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df:about = "http://someplace.edu"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Really Interesting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interest_level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213372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edica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495680"/>
            <a:ext cx="1676520" cy="459720"/>
          </a:xfrm>
          <a:prstGeom prst="rect">
            <a:avLst/>
          </a:prstGeom>
          <a:solidFill>
            <a:srgbClr val="d8d688"/>
          </a:solidFill>
          <a:ln w="19080">
            <a:solidFill>
              <a:srgbClr val="586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3276720"/>
            <a:ext cx="457200" cy="38088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657600"/>
            <a:ext cx="380880" cy="30492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019920" y="3809880"/>
            <a:ext cx="457200" cy="609840"/>
          </a:xfrm>
          <a:prstGeom prst="line">
            <a:avLst/>
          </a:prstGeom>
          <a:ln w="9360">
            <a:solidFill>
              <a:srgbClr val="2d252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d that is the entire model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ublin Core in RDF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rdf:Description rdf:about="http://some_URI”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title&gt;Expressing Dublin Core with</a:t>
            </a:r>
            <a:br>
              <a:rPr sz="2000"/>
            </a:b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  RDF&lt;/dc:titl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reator&gt; Eric Miller &lt;/dc:creator&gt; &lt;dc:subject&gt; Dublin Core; RDF; XML &lt;/dc:subject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publisher&gt; Dublin Core Metadata Initiative &lt;/dc:publishe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contributor&gt;Dublin Core Data Model Working Group &lt;/dc:contributor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date&gt; 1999-07-01 &lt;/dc:date&gt; 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Courier New"/>
              </a:rPr>
              <a:t>&lt;dc:format&gt; text/html &lt;/dc:format&gt; &lt;dc:language&gt; en &lt;/dc:language&gt; &lt;/rdf:Description&gt;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447920"/>
            <a:ext cx="6019920" cy="4952880"/>
            <a:chOff x="914400" y="1447920"/>
            <a:chExt cx="6019920" cy="4952880"/>
          </a:xfrm>
        </p:grpSpPr>
        <p:sp>
          <p:nvSpPr>
            <p:cNvPr id="126" name=""/>
            <p:cNvSpPr/>
            <p:nvPr/>
          </p:nvSpPr>
          <p:spPr>
            <a:xfrm>
              <a:off x="914400" y="1447920"/>
              <a:ext cx="6019920" cy="495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127" name="sirpac_54928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5833800" cy="479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ructured entiti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ell, there are complications…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191120"/>
            <a:ext cx="60195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 rdf:about = "http://some_uri"&gt; 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person value="Jon Jab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gem:email value="jonjab@u.wash.edu" /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dc:creator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Courier New"/>
              </a:rPr>
              <a:t>&lt;/rdf:Description&gt;</a:t>
            </a:r>
            <a:endParaRPr b="0" lang="en-US" sz="1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54520" y="1447920"/>
            <a:ext cx="3763800" cy="2666880"/>
            <a:chOff x="3854520" y="1447920"/>
            <a:chExt cx="3763800" cy="2666880"/>
          </a:xfrm>
        </p:grpSpPr>
        <p:sp>
          <p:nvSpPr>
            <p:cNvPr id="132" name=""/>
            <p:cNvSpPr/>
            <p:nvPr/>
          </p:nvSpPr>
          <p:spPr>
            <a:xfrm>
              <a:off x="3854520" y="1447920"/>
              <a:ext cx="1905120" cy="60948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07360" y="2438640"/>
              <a:ext cx="1600200" cy="533160"/>
            </a:xfrm>
            <a:prstGeom prst="ellipse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50160" y="3505320"/>
              <a:ext cx="83808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 Jab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21760" y="3505320"/>
              <a:ext cx="990360" cy="609480"/>
            </a:xfrm>
            <a:prstGeom prst="rect">
              <a:avLst/>
            </a:prstGeom>
            <a:solidFill>
              <a:srgbClr val="d8d688"/>
            </a:solidFill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jonjab@</a:t>
              </a:r>
              <a:br>
                <a:rPr sz="1000"/>
              </a:b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u.wash.edu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31040" y="1981440"/>
              <a:ext cx="533520" cy="45720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9882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5440" y="2971800"/>
              <a:ext cx="380880" cy="533520"/>
            </a:xfrm>
            <a:prstGeom prst="line">
              <a:avLst/>
            </a:prstGeom>
            <a:ln w="9360">
              <a:solidFill>
                <a:srgbClr val="2d252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59440" y="1660680"/>
              <a:ext cx="19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http://some_uri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89680" y="205740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dc:creator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9320" y="3124440"/>
              <a:ext cx="942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person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51800" y="304812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2d2525"/>
                  </a:solidFill>
                  <a:latin typeface="Courier New"/>
                </a:rPr>
                <a:t>gem:email</a:t>
              </a:r>
              <a:endParaRPr b="0" lang="en-US" sz="10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1T01:07:55Z</dcterms:created>
  <dc:creator>Jon Jablonski</dc:creator>
  <dc:description/>
  <dc:language>en-US</dc:language>
  <cp:lastModifiedBy>Jon Jablonski</cp:lastModifiedBy>
  <dcterms:modified xsi:type="dcterms:W3CDTF">2002-04-18T03:52:46Z</dcterms:modified>
  <cp:revision>6</cp:revision>
  <dc:subject/>
  <dc:title>The Resource Description Framework</dc:title>
</cp:coreProperties>
</file>