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CA3-01D7-4670-870E-C9F11428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257-AF8E-43A6-9DBF-389EEFB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56D-12AD-4684-86A4-1B771CBE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A7A-0804-4262-86A9-5496446C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E7A-E75C-4D82-8B16-1682C6D3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A047-90CF-4AB2-92FB-BE879A6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EF3D-9D15-47E1-ACF9-D3487A15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7FBD-65FB-4DB8-8816-D4EF1BF5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37A2-E87A-4AF7-AEEC-FF72E82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F2AF-DBDB-4012-A3AC-3A8C5490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466B-CD30-4547-BB5C-5147556F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A24-7E55-4474-BB1A-9D0A9772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A58B-BD5B-4211-A29C-12E186B2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BA25-DB8F-4E09-A9D8-A792A7F3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B857-62B5-4470-8B7C-D307180D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429-3848-42A1-A530-C74223AD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C223-947A-4BFF-9956-66F15F45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1CF-A55A-4DAE-A56D-9F44AD5F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F6A-AE40-4FAA-8E11-168179A6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C75-64A9-4542-B3F8-E564F7EA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2BE-B517-4698-BA88-4A99603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E9B-7CA3-4625-854B-7A13360C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261-8C94-41E1-B245-E89E04A2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6A0-B56A-4B55-A12A-12EE6AD4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E9DF-C169-40B5-9412-991C3E97B76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AC62-E158-4781-98B3-CEE46391594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minfo.org/Workbench/Metadata" TargetMode="External"/><Relationship Id="rId2" Type="http://schemas.openxmlformats.org/officeDocument/2006/relationships/hyperlink" Target="http://www.geminfo.org/Workbench/Metadata" TargetMode="External"/><Relationship Id="rId3" Type="http://schemas.openxmlformats.org/officeDocument/2006/relationships/hyperlink" Target="http://www.geminfo.org/Workbench/Metadata" TargetMode="Externa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ytimes.com/learnin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 Resource Description Frame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d its application to thegateway.or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5400" y="3657600"/>
            <a:ext cx="2466720" cy="2042280"/>
          </a:xfrm>
          <a:prstGeom prst="rect">
            <a:avLst/>
          </a:prstGeom>
          <a:solidFill>
            <a:srgbClr val="d8d688"/>
          </a:solidFill>
          <a:ln w="19080">
            <a:solidFill>
              <a:srgbClr val="4847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r the IIAP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Jon Jablonski, </a:t>
            </a:r>
            <a:r>
              <a:rPr b="0" lang="en-US" sz="800" spc="-1" strike="noStrike">
                <a:solidFill>
                  <a:srgbClr val="2d2525"/>
                </a:solidFill>
                <a:latin typeface="Times New Roman"/>
              </a:rPr>
              <a:t>jonjab@u.washington.edu</a:t>
            </a:r>
            <a:endParaRPr b="0" lang="en-US" sz="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Research Assistant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The Information School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University of Washington.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May 18, 2001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chemas…</a:t>
            </a:r>
            <a:br>
              <a:rPr sz="4400"/>
            </a:br>
            <a:r>
              <a:rPr b="0" lang="en-US" sz="2800" spc="-1" strike="noStrike">
                <a:solidFill>
                  <a:srgbClr val="061c62"/>
                </a:solidFill>
                <a:latin typeface="Times New Roman"/>
              </a:rPr>
              <a:t> …define classes and properties.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ritten in RDF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scribes the relationships between properties and their resource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nalogous to ERD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an be used to control vocabulary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Core Classes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Resource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:Property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Class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Core Properties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:type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subClassOf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subPropertyOf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seeAlso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rdfs:isDefinedBy</a:t>
            </a:r>
            <a:r>
              <a:rPr b="0" i="1" lang="en-US" sz="1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Schemas declare standard compliance.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lass rdf:ID = "LanguageScheme"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label&gt;Language Encoding Schemes&lt;/rdfs:label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omment&gt;A set of language encoding schemes and/or formats.&lt;/rdfs:comment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isDefinedBy rdf:resource = "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/rdfs:Class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lass rdf:ID = "RFC1766"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label&gt;RFC1766&lt;/rdfs:label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comment&gt;Internet RFC 1766 'Tags for the identification of Language' specifies a two 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letter code taken from ISO 639, followed optionally by a two letter country code 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taken from ISO 3166.&lt;/rdfs:comment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:type rdf:resource = "#LanguageScheme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seeAlso rdf:resource = "http://www.ietf.org/rfc/rfc1766.txt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isDefinedBy rdf:resource = "" /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/rdfs:Class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dc:language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dcq:RFC1766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:value&gt;EN&lt;/rdf:value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label&gt;English&lt;/rdfs:label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rdfs:isDefinedBy rdf:resource="http://www.ietf.org/rfc/rfc1766.txt"/&gt; &lt;/dcq:RFC1766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d2525"/>
                </a:solidFill>
                <a:latin typeface="Courier New"/>
              </a:rPr>
              <a:t>&lt;/dc:language&gt; </a:t>
            </a: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76920" y="1981080"/>
            <a:ext cx="1828800" cy="685800"/>
            <a:chOff x="4876920" y="1981080"/>
            <a:chExt cx="1828800" cy="685800"/>
          </a:xfrm>
        </p:grpSpPr>
        <p:sp>
          <p:nvSpPr>
            <p:cNvPr id="149" name=""/>
            <p:cNvSpPr/>
            <p:nvPr/>
          </p:nvSpPr>
          <p:spPr>
            <a:xfrm>
              <a:off x="4876920" y="1981080"/>
              <a:ext cx="1828800" cy="68580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560" y="213336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A class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00600" y="3276720"/>
            <a:ext cx="2438280" cy="914400"/>
            <a:chOff x="4800600" y="3276720"/>
            <a:chExt cx="2438280" cy="914400"/>
          </a:xfrm>
        </p:grpSpPr>
        <p:sp>
          <p:nvSpPr>
            <p:cNvPr id="152" name=""/>
            <p:cNvSpPr/>
            <p:nvPr/>
          </p:nvSpPr>
          <p:spPr>
            <a:xfrm>
              <a:off x="4800600" y="3276720"/>
              <a:ext cx="2438280" cy="91440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2400" y="3505320"/>
              <a:ext cx="160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Has subclasses.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4800600"/>
            <a:ext cx="2743200" cy="990720"/>
            <a:chOff x="4114800" y="4800600"/>
            <a:chExt cx="2743200" cy="990720"/>
          </a:xfrm>
        </p:grpSpPr>
        <p:sp>
          <p:nvSpPr>
            <p:cNvPr id="155" name=""/>
            <p:cNvSpPr/>
            <p:nvPr/>
          </p:nvSpPr>
          <p:spPr>
            <a:xfrm>
              <a:off x="4114800" y="4800600"/>
              <a:ext cx="2743200" cy="99072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1600" y="4953240"/>
              <a:ext cx="245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Which provide meaning 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0320"/>
                  </a:solidFill>
                  <a:latin typeface="Times New Roman"/>
                </a:rPr>
                <a:t>for instances of  data. </a:t>
              </a:r>
              <a:endParaRPr b="0" lang="en-US" sz="1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Schemas are also namespaces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?xml version="1.0" encoding="ISO-8859-1" ?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rdf:RDF xmlns:rdf="http://www.w3.org/1999/02/22-rdf-syntax-ns#" xmlns:rdfs="http://www.w3.org/2000/01/rdf-schema#" xmlns:dc="http://purl.org/dc/elements/1.1/" xmlns:dcq="http://dublincore.org/2000/03/13/dcq#" xmlns:dctype="http://dublincore.org/2000/03/13/dctype#" xmlns:gemq="http://gemstar.ischool.wasington.edu/2.0/gemq#"&gt;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rdf:Description rdf:about=""&gt;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title&gt;The GEM Element Set v2.0&lt;/dc:title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publisher&gt;The GEM Consortium&lt;/dc:publisher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description&gt;The GEM metadata vocabulary is a simple vocabulary intended to facilitate discovery of educational resources.&lt;/dc:description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language&gt;English&lt;/dc:language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dc:date&gt;2001-03-16&lt;/dc:date&gt; 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12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029200" y="1981080"/>
            <a:ext cx="2141640" cy="1143000"/>
            <a:chOff x="5029200" y="1981080"/>
            <a:chExt cx="2141640" cy="1143000"/>
          </a:xfrm>
        </p:grpSpPr>
        <p:sp>
          <p:nvSpPr>
            <p:cNvPr id="160" name=""/>
            <p:cNvSpPr/>
            <p:nvPr/>
          </p:nvSpPr>
          <p:spPr>
            <a:xfrm>
              <a:off x="5029200" y="1981080"/>
              <a:ext cx="2141640" cy="114300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0040" y="2286000"/>
              <a:ext cx="1959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70320"/>
                  </a:solidFill>
                  <a:latin typeface="Times New Roman"/>
                </a:rPr>
                <a:t>Namespace declarations </a:t>
              </a:r>
              <a:endParaRPr b="0" lang="en-US" sz="1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70320"/>
                  </a:solidFill>
                  <a:latin typeface="Times New Roman"/>
                </a:rPr>
                <a:t>point to schemas</a:t>
              </a:r>
              <a:endParaRPr b="0" lang="en-US" sz="1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48320" y="3886200"/>
            <a:ext cx="2187360" cy="1219320"/>
            <a:chOff x="4648320" y="3886200"/>
            <a:chExt cx="2187360" cy="1219320"/>
          </a:xfrm>
        </p:grpSpPr>
        <p:sp>
          <p:nvSpPr>
            <p:cNvPr id="163" name=""/>
            <p:cNvSpPr/>
            <p:nvPr/>
          </p:nvSpPr>
          <p:spPr>
            <a:xfrm>
              <a:off x="4648320" y="3886200"/>
              <a:ext cx="2187360" cy="121932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80880" y="4191120"/>
              <a:ext cx="180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70320"/>
                  </a:solidFill>
                  <a:latin typeface="Times New Roman"/>
                </a:rPr>
                <a:t>Providing semantic 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70320"/>
                  </a:solidFill>
                  <a:latin typeface="Times New Roman"/>
                </a:rPr>
                <a:t>meaning to entities.</a:t>
              </a:r>
              <a:endParaRPr b="0" lang="en-US" sz="16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rolled language:  values in RDF wordlis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Description rdf:about="s3"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gem:ERIC 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rdf:about="http://128.208.100.148/</a:t>
            </a:r>
            <a:br>
              <a:rPr sz="1800"/>
            </a:b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     thesauri/eric?Secondary_Education"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value&gt;Secondary Education&lt;/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gem:ERIC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733920"/>
            <a:ext cx="5638680" cy="1719720"/>
          </a:xfrm>
          <a:prstGeom prst="rect">
            <a:avLst/>
          </a:prstGeom>
          <a:solidFill>
            <a:srgbClr val="d8d688"/>
          </a:solidFill>
          <a:ln w="1584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0320"/>
                </a:solidFill>
                <a:latin typeface="Times New Roman"/>
              </a:rPr>
              <a:t>Thesaurus is one type of word list stored in rdf: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df:Description about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s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&gt;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df:valu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programs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df:valu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SCOP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schedules or plans of procedure under which a series of intended activities is directed toward desired results (note: use a more specific term if possbile)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/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SCOP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_administration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_attitudes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_budgeting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ns2:RT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990000"/>
                </a:solidFill>
                <a:latin typeface="Times New Roman"/>
              </a:rPr>
              <a:t>resource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="</a:t>
            </a:r>
            <a:r>
              <a:rPr b="1" lang="en-US" sz="900" spc="-1" strike="noStrike">
                <a:solidFill>
                  <a:srgbClr val="2d2525"/>
                </a:solidFill>
                <a:latin typeface="Times New Roman"/>
              </a:rPr>
              <a:t>http://raven.ischool.washington.edu/thesauri/eric?program content</a:t>
            </a:r>
            <a:r>
              <a:rPr b="0" lang="en-US" sz="900" spc="-1" strike="noStrike">
                <a:solidFill>
                  <a:srgbClr val="0000ff"/>
                </a:solidFill>
                <a:latin typeface="Times New Roman"/>
              </a:rPr>
              <a:t>" /&gt;</a:t>
            </a:r>
            <a:r>
              <a:rPr b="0" lang="en-US" sz="9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19920" y="3123720"/>
            <a:ext cx="914400" cy="685800"/>
          </a:xfrm>
          <a:prstGeom prst="line">
            <a:avLst/>
          </a:prstGeom>
          <a:ln w="31680">
            <a:solidFill>
              <a:srgbClr val="f703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parser from w3.org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.org/RDF/Implementations/SiRPAC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Model and Syntax Specification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.org/TR/REC-rdf-syntax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Schema Specification 1.0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.org/TR/2000/CR-rdf-schema-20000327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homepage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w3c.org/RDF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xpressing Qualified Dublin Core in RDF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mathematik.uni-osnabrueck.de/projects/dcqual/qual21.3.1/qual21-3-1.html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e Gateway to Educational Materials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thegateway.org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GEMinfo (about the Gateway)</a:t>
            </a:r>
            <a:br>
              <a:rPr sz="2400"/>
            </a:br>
            <a:r>
              <a:rPr b="0" i="1" lang="en-US" sz="1400" spc="-1" strike="noStrike">
                <a:solidFill>
                  <a:srgbClr val="2d2525"/>
                </a:solidFill>
                <a:latin typeface="Times New Roman"/>
              </a:rPr>
              <a:t>http://www.geminfo.org/</a:t>
            </a: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urrent work on theGateway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esigning RDF based record structure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verting old data to RDF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stablishing standards for expressing Dublin Core metadata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ww.thegateway.or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consortial effort to provide a directory to quality educational materials on the web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3954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ehind the scenes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tent providers and consortium members catalog and embed 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egister URIs with GEM 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Harvester crawls the metadata, builds databas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M1 data is html meta tag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scriptors based on Dublin Core + GEM qualifier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www.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geminfo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.org/_x000b_Workbench/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RDF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n evolving XML application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 model for representing metadata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 syntax for encoding and transporting this metadata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A real-life beginning of the </a:t>
            </a:r>
            <a:r>
              <a:rPr b="1" i="1" lang="en-US" sz="2400" spc="-1" strike="noStrike">
                <a:solidFill>
                  <a:srgbClr val="061c62"/>
                </a:solidFill>
                <a:latin typeface="Times New Roman"/>
              </a:rPr>
              <a:t>semantic web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04920" y="3886200"/>
            <a:ext cx="7391160" cy="1451520"/>
            <a:chOff x="304920" y="3886200"/>
            <a:chExt cx="7391160" cy="1451520"/>
          </a:xfrm>
        </p:grpSpPr>
        <p:sp>
          <p:nvSpPr>
            <p:cNvPr id="102" name=""/>
            <p:cNvSpPr/>
            <p:nvPr/>
          </p:nvSpPr>
          <p:spPr>
            <a:xfrm>
              <a:off x="304920" y="4191120"/>
              <a:ext cx="3276360" cy="8380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9920" y="3886200"/>
              <a:ext cx="1676160" cy="12952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value of 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the property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4610160"/>
              <a:ext cx="243864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1400" y="434340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Stuff in the world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4146480"/>
              <a:ext cx="13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property </a:t>
              </a:r>
              <a:br>
                <a:rPr sz="2400"/>
              </a:b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f stuff </a:t>
              </a:r>
              <a:br>
                <a:rPr sz="2400"/>
              </a:b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219320" y="5638680"/>
            <a:ext cx="6024240" cy="459720"/>
            <a:chOff x="1219320" y="5638680"/>
            <a:chExt cx="6024240" cy="459720"/>
          </a:xfrm>
        </p:grpSpPr>
        <p:grpSp>
          <p:nvGrpSpPr>
            <p:cNvPr id="108" name=""/>
            <p:cNvGrpSpPr/>
            <p:nvPr/>
          </p:nvGrpSpPr>
          <p:grpSpPr>
            <a:xfrm>
              <a:off x="1219320" y="5638680"/>
              <a:ext cx="3907440" cy="459720"/>
              <a:chOff x="1219320" y="5638680"/>
              <a:chExt cx="390744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1219320" y="5638680"/>
                <a:ext cx="109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Subject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809160" y="563868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Predicat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248880" y="5638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o what does it look lik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rdf:Description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df:about = "http://someplace.edu"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eally Interesting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11464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42900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edica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49568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62320" y="3276720"/>
            <a:ext cx="457200" cy="38088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3657600"/>
            <a:ext cx="380880" cy="30492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019920" y="3809880"/>
            <a:ext cx="457200" cy="60984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d that is the entire model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ublin Core in RDF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rdf:Description rdf:about="http://some_URI”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title&gt;Expressing Dublin Core with</a:t>
            </a:r>
            <a:br>
              <a:rPr sz="2000"/>
            </a:b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  RDF&lt;/dc:titl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reator&gt; Eric Miller &lt;/dc:creator&gt; &lt;dc:subject&gt; Dublin Core; RDF; XML &lt;/dc:subject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publisher&gt; Dublin Core Metadata Initiative &lt;/dc:publishe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ontributor&gt;Dublin Core Data Model Working Group &lt;/dc:contributo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date&gt; 1999-07-01 &lt;/dc:dat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format&gt; text/html &lt;/dc:format&gt; &lt;dc:language&gt; en &lt;/dc:language&gt; 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14400" y="1447920"/>
            <a:ext cx="6019920" cy="4952880"/>
            <a:chOff x="914400" y="1447920"/>
            <a:chExt cx="6019920" cy="4952880"/>
          </a:xfrm>
        </p:grpSpPr>
        <p:sp>
          <p:nvSpPr>
            <p:cNvPr id="124" name=""/>
            <p:cNvSpPr/>
            <p:nvPr/>
          </p:nvSpPr>
          <p:spPr>
            <a:xfrm>
              <a:off x="914400" y="1447920"/>
              <a:ext cx="601992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125" name="sirpac_54928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5833800" cy="4795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ructured entiti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ell, there are complications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6019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 rdf:about = "http://some_uri"&gt; 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person value="Jon Jab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email value="jonjab@u.wash.edu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54520" y="1447920"/>
            <a:ext cx="3763800" cy="2666880"/>
            <a:chOff x="3854520" y="1447920"/>
            <a:chExt cx="3763800" cy="2666880"/>
          </a:xfrm>
        </p:grpSpPr>
        <p:sp>
          <p:nvSpPr>
            <p:cNvPr id="130" name=""/>
            <p:cNvSpPr/>
            <p:nvPr/>
          </p:nvSpPr>
          <p:spPr>
            <a:xfrm>
              <a:off x="3854520" y="1447920"/>
              <a:ext cx="1905120" cy="6094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7360" y="2438640"/>
              <a:ext cx="1600200" cy="53316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0160" y="3505320"/>
              <a:ext cx="83808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 Jab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1760" y="3505320"/>
              <a:ext cx="99036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jab@</a:t>
              </a:r>
              <a:br>
                <a:rPr sz="1000"/>
              </a:b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u.wash.edu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31040" y="1981440"/>
              <a:ext cx="533520" cy="4572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9882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54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59440" y="166068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http://some_uri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9680" y="205740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dc:creator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99320" y="312444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person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1800" y="304812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email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ame approach for Statements about Statemen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365d96"/>
                </a:solidFill>
                <a:uFillTx/>
                <a:latin typeface="Courier New"/>
                <a:hlinkClick r:id="rId1"/>
              </a:rPr>
              <a:t>http://www.nytimes.com/learning/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Lesson Plan Archive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01:07:55Z</dcterms:created>
  <dc:creator>Jon Jablonski</dc:creator>
  <dc:description/>
  <dc:language>en-US</dc:language>
  <cp:lastModifiedBy>Jon Jablonski</cp:lastModifiedBy>
  <dcterms:modified xsi:type="dcterms:W3CDTF">2002-04-18T03:53:04Z</dcterms:modified>
  <cp:revision>11</cp:revision>
  <dc:subject/>
  <dc:title>The Resource Description Framework</dc:title>
</cp:coreProperties>
</file>