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283F-0768-4190-B322-7E1B6237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visually with selec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table to switch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make sure you start editing before switching selectio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closing the table will make the view come tr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uld be a good time to s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net demo to find census stu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it’s at:  http://www.census.gov/geo/www/cob/tr200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et there via library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us trac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ring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select inter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save as shape file to make a new file with only those of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o make alias for county. –or else query engine will be conf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ot stuck here.  Try join then query again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each of these attributes can represent any of the primi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 up proj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curvey lines on topo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305-174F-42DF-93AE-30AF1C8E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F7F-2C40-49AF-B868-1F07E6E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0FB-3B42-401E-A341-CDB0D7B8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8C6-2C6D-4A8E-B662-01C1C510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121-FA34-4AA7-A04A-8797C0C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CB6-423D-4877-B377-9C21526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912-CB77-4801-B548-E7E77AAC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8E3-12BE-4F8A-BCA4-38575E8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34D-C93C-407E-AA49-23701B8E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C0B-88A2-4953-A0E4-B37BEEAD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12E-C86F-499B-9DE5-375EAB8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51F-0FCC-4062-B423-10270AF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627-7A02-4C87-BE5F-3ABF337C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ashington.edu/home/maps/?47,70,463,582" TargetMode="External"/><Relationship Id="rId3" Type="http://schemas.openxmlformats.org/officeDocument/2006/relationships/hyperlink" Target="http://www.washington.edu/home/maps/?48,71,521,58" TargetMode="External"/><Relationship Id="rId4" Type="http://schemas.openxmlformats.org/officeDocument/2006/relationships/hyperlink" Target="http://www.washington.edu/home/maps/?69,75,384,737" TargetMode="External"/><Relationship Id="rId5" Type="http://schemas.openxmlformats.org/officeDocument/2006/relationships/hyperlink" Target="http://www.washington.edu/home/maps/?54,45,904,653" TargetMode="External"/><Relationship Id="rId6" Type="http://schemas.openxmlformats.org/officeDocument/2006/relationships/hyperlink" Target="http://www.washington.edu/home/maps/?71,54,865,667" TargetMode="External"/><Relationship Id="rId7" Type="http://schemas.openxmlformats.org/officeDocument/2006/relationships/hyperlink" Target="http://www.washington.edu/home/maps/?70,71,810,542" TargetMode="External"/><Relationship Id="rId8" Type="http://schemas.openxmlformats.org/officeDocument/2006/relationships/hyperlink" Target="http://www.washington.edu/home/maps/?56,37,516,111" TargetMode="External"/><Relationship Id="rId9" Type="http://schemas.openxmlformats.org/officeDocument/2006/relationships/hyperlink" Target="http://www.washington.edu/home/maps/?65,41,779,853" TargetMode="External"/><Relationship Id="rId10" Type="http://schemas.openxmlformats.org/officeDocument/2006/relationships/hyperlink" Target="http://www.washington.edu/home/maps/?63,66,599,616" TargetMode="External"/><Relationship Id="rId11" Type="http://schemas.openxmlformats.org/officeDocument/2006/relationships/hyperlink" Target="http://www.washington.edu/home/maps/?67,48,363,617" TargetMode="External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Geospati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Jablo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6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&amp;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—what are you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a layer with no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layer of stock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ome other unit to measure agai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ing to restrict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me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 me the Indian population in central Washington, indicating whether or not people are living on a reserv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23880" y="228600"/>
          <a:ext cx="7620120" cy="58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7620120" cy="58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kama N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Washington coun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ly central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reservation areas from earlie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y theme to isolate area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same for Census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h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have the census b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data on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de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 etc etc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s to find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agda.lib.washington.edu/gis/uwonly/data/geolytics/was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ensus.gov/population/www/socdemo/race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by 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inding part of one theme that intersect with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as an attribute operation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a new probl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s aren’t quit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is a func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’s collect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upon which it is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 heck to combine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what’s in one to the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visu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2 ste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into trac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for non-bl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kill my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networ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far to the nearest bus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lanning decisions made by completely made up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ue cynic would claim that formulas are made up to get the desired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ni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uild new fields when data doesn’t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new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your silly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289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6280" y="6248520"/>
            <a:ext cx="679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 http://www.esri.com/library/userconf/proc95/to150/p11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ARC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management is an issu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 files get h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layer has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ing a layer doesn’t delete it’s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make new files that may not be destroyed auto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t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667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2438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666880" y="1981080"/>
            <a:ext cx="914400" cy="1143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752480"/>
            <a:ext cx="2361960" cy="1959120"/>
          </a:xfrm>
          <a:custGeom>
            <a:avLst/>
            <a:gdLst/>
            <a:ahLst/>
            <a:rect l="l" t="t" r="r" b="b"/>
            <a:pathLst>
              <a:path w="2016" h="1666">
                <a:moveTo>
                  <a:pt x="764" y="768"/>
                </a:moveTo>
                <a:lnTo>
                  <a:pt x="860" y="48"/>
                </a:lnTo>
                <a:lnTo>
                  <a:pt x="1820" y="0"/>
                </a:lnTo>
                <a:lnTo>
                  <a:pt x="2012" y="336"/>
                </a:lnTo>
                <a:cubicBezTo>
                  <a:pt x="2009" y="459"/>
                  <a:pt x="2016" y="583"/>
                  <a:pt x="2003" y="706"/>
                </a:cubicBezTo>
                <a:cubicBezTo>
                  <a:pt x="2002" y="719"/>
                  <a:pt x="1985" y="687"/>
                  <a:pt x="1975" y="679"/>
                </a:cubicBezTo>
                <a:cubicBezTo>
                  <a:pt x="1951" y="660"/>
                  <a:pt x="1902" y="624"/>
                  <a:pt x="1902" y="624"/>
                </a:cubicBezTo>
                <a:cubicBezTo>
                  <a:pt x="1881" y="592"/>
                  <a:pt x="1865" y="581"/>
                  <a:pt x="1829" y="569"/>
                </a:cubicBezTo>
                <a:cubicBezTo>
                  <a:pt x="1823" y="557"/>
                  <a:pt x="1820" y="542"/>
                  <a:pt x="1811" y="533"/>
                </a:cubicBezTo>
                <a:cubicBezTo>
                  <a:pt x="1804" y="526"/>
                  <a:pt x="1790" y="530"/>
                  <a:pt x="1783" y="523"/>
                </a:cubicBezTo>
                <a:cubicBezTo>
                  <a:pt x="1776" y="516"/>
                  <a:pt x="1780" y="504"/>
                  <a:pt x="1774" y="496"/>
                </a:cubicBezTo>
                <a:cubicBezTo>
                  <a:pt x="1748" y="462"/>
                  <a:pt x="1706" y="441"/>
                  <a:pt x="1683" y="405"/>
                </a:cubicBezTo>
                <a:cubicBezTo>
                  <a:pt x="1677" y="396"/>
                  <a:pt x="1674" y="383"/>
                  <a:pt x="1665" y="377"/>
                </a:cubicBezTo>
                <a:cubicBezTo>
                  <a:pt x="1649" y="367"/>
                  <a:pt x="1610" y="359"/>
                  <a:pt x="1610" y="359"/>
                </a:cubicBezTo>
                <a:cubicBezTo>
                  <a:pt x="1555" y="372"/>
                  <a:pt x="1503" y="384"/>
                  <a:pt x="1454" y="414"/>
                </a:cubicBezTo>
                <a:cubicBezTo>
                  <a:pt x="1428" y="430"/>
                  <a:pt x="1405" y="451"/>
                  <a:pt x="1381" y="469"/>
                </a:cubicBezTo>
                <a:cubicBezTo>
                  <a:pt x="1364" y="482"/>
                  <a:pt x="1335" y="514"/>
                  <a:pt x="1335" y="514"/>
                </a:cubicBezTo>
                <a:cubicBezTo>
                  <a:pt x="1331" y="526"/>
                  <a:pt x="1317" y="568"/>
                  <a:pt x="1317" y="578"/>
                </a:cubicBezTo>
                <a:cubicBezTo>
                  <a:pt x="1317" y="630"/>
                  <a:pt x="1318" y="683"/>
                  <a:pt x="1326" y="734"/>
                </a:cubicBezTo>
                <a:cubicBezTo>
                  <a:pt x="1331" y="765"/>
                  <a:pt x="1352" y="761"/>
                  <a:pt x="1372" y="770"/>
                </a:cubicBezTo>
                <a:cubicBezTo>
                  <a:pt x="1454" y="806"/>
                  <a:pt x="1532" y="817"/>
                  <a:pt x="1619" y="834"/>
                </a:cubicBezTo>
                <a:cubicBezTo>
                  <a:pt x="1644" y="873"/>
                  <a:pt x="1677" y="911"/>
                  <a:pt x="1710" y="944"/>
                </a:cubicBezTo>
                <a:cubicBezTo>
                  <a:pt x="1721" y="990"/>
                  <a:pt x="1736" y="999"/>
                  <a:pt x="1765" y="1035"/>
                </a:cubicBezTo>
                <a:cubicBezTo>
                  <a:pt x="1785" y="1060"/>
                  <a:pt x="1793" y="1088"/>
                  <a:pt x="1802" y="1118"/>
                </a:cubicBezTo>
                <a:cubicBezTo>
                  <a:pt x="1799" y="1142"/>
                  <a:pt x="1800" y="1168"/>
                  <a:pt x="1793" y="1191"/>
                </a:cubicBezTo>
                <a:cubicBezTo>
                  <a:pt x="1790" y="1199"/>
                  <a:pt x="1779" y="1202"/>
                  <a:pt x="1774" y="1209"/>
                </a:cubicBezTo>
                <a:cubicBezTo>
                  <a:pt x="1706" y="1310"/>
                  <a:pt x="1846" y="1156"/>
                  <a:pt x="1692" y="1310"/>
                </a:cubicBezTo>
                <a:cubicBezTo>
                  <a:pt x="1674" y="1328"/>
                  <a:pt x="1646" y="1336"/>
                  <a:pt x="1628" y="1355"/>
                </a:cubicBezTo>
                <a:cubicBezTo>
                  <a:pt x="1593" y="1392"/>
                  <a:pt x="1575" y="1424"/>
                  <a:pt x="1527" y="1447"/>
                </a:cubicBezTo>
                <a:cubicBezTo>
                  <a:pt x="1496" y="1478"/>
                  <a:pt x="1487" y="1488"/>
                  <a:pt x="1445" y="1474"/>
                </a:cubicBezTo>
                <a:cubicBezTo>
                  <a:pt x="1448" y="1456"/>
                  <a:pt x="1446" y="1436"/>
                  <a:pt x="1454" y="1419"/>
                </a:cubicBezTo>
                <a:cubicBezTo>
                  <a:pt x="1469" y="1386"/>
                  <a:pt x="1567" y="1327"/>
                  <a:pt x="1601" y="1310"/>
                </a:cubicBezTo>
                <a:cubicBezTo>
                  <a:pt x="1628" y="1281"/>
                  <a:pt x="1619" y="1270"/>
                  <a:pt x="1655" y="1246"/>
                </a:cubicBezTo>
                <a:cubicBezTo>
                  <a:pt x="1649" y="1215"/>
                  <a:pt x="1649" y="1183"/>
                  <a:pt x="1637" y="1154"/>
                </a:cubicBezTo>
                <a:cubicBezTo>
                  <a:pt x="1627" y="1129"/>
                  <a:pt x="1568" y="1125"/>
                  <a:pt x="1546" y="1118"/>
                </a:cubicBezTo>
                <a:cubicBezTo>
                  <a:pt x="1527" y="1120"/>
                  <a:pt x="1430" y="1114"/>
                  <a:pt x="1399" y="1145"/>
                </a:cubicBezTo>
                <a:cubicBezTo>
                  <a:pt x="1360" y="1184"/>
                  <a:pt x="1409" y="1200"/>
                  <a:pt x="1335" y="1227"/>
                </a:cubicBezTo>
                <a:cubicBezTo>
                  <a:pt x="1316" y="1234"/>
                  <a:pt x="1300" y="1248"/>
                  <a:pt x="1281" y="1255"/>
                </a:cubicBezTo>
                <a:cubicBezTo>
                  <a:pt x="1257" y="1264"/>
                  <a:pt x="1207" y="1273"/>
                  <a:pt x="1207" y="1273"/>
                </a:cubicBezTo>
                <a:cubicBezTo>
                  <a:pt x="1169" y="1298"/>
                  <a:pt x="1151" y="1303"/>
                  <a:pt x="1107" y="1291"/>
                </a:cubicBezTo>
                <a:cubicBezTo>
                  <a:pt x="1034" y="1182"/>
                  <a:pt x="1114" y="1111"/>
                  <a:pt x="1162" y="1017"/>
                </a:cubicBezTo>
                <a:cubicBezTo>
                  <a:pt x="1159" y="987"/>
                  <a:pt x="1168" y="953"/>
                  <a:pt x="1153" y="926"/>
                </a:cubicBezTo>
                <a:cubicBezTo>
                  <a:pt x="1145" y="912"/>
                  <a:pt x="1123" y="917"/>
                  <a:pt x="1107" y="917"/>
                </a:cubicBezTo>
                <a:cubicBezTo>
                  <a:pt x="1061" y="917"/>
                  <a:pt x="1016" y="923"/>
                  <a:pt x="970" y="926"/>
                </a:cubicBezTo>
                <a:cubicBezTo>
                  <a:pt x="934" y="938"/>
                  <a:pt x="898" y="946"/>
                  <a:pt x="860" y="953"/>
                </a:cubicBezTo>
                <a:cubicBezTo>
                  <a:pt x="813" y="984"/>
                  <a:pt x="785" y="1022"/>
                  <a:pt x="759" y="1072"/>
                </a:cubicBezTo>
                <a:cubicBezTo>
                  <a:pt x="751" y="1112"/>
                  <a:pt x="739" y="1150"/>
                  <a:pt x="732" y="1191"/>
                </a:cubicBezTo>
                <a:cubicBezTo>
                  <a:pt x="723" y="1241"/>
                  <a:pt x="725" y="1300"/>
                  <a:pt x="686" y="1337"/>
                </a:cubicBezTo>
                <a:cubicBezTo>
                  <a:pt x="666" y="1399"/>
                  <a:pt x="586" y="1434"/>
                  <a:pt x="531" y="1465"/>
                </a:cubicBezTo>
                <a:cubicBezTo>
                  <a:pt x="420" y="1527"/>
                  <a:pt x="570" y="1444"/>
                  <a:pt x="485" y="1502"/>
                </a:cubicBezTo>
                <a:cubicBezTo>
                  <a:pt x="423" y="1545"/>
                  <a:pt x="471" y="1497"/>
                  <a:pt x="430" y="1538"/>
                </a:cubicBezTo>
                <a:cubicBezTo>
                  <a:pt x="416" y="1552"/>
                  <a:pt x="408" y="1570"/>
                  <a:pt x="394" y="1584"/>
                </a:cubicBezTo>
                <a:cubicBezTo>
                  <a:pt x="336" y="1641"/>
                  <a:pt x="249" y="1651"/>
                  <a:pt x="174" y="1666"/>
                </a:cubicBezTo>
                <a:cubicBezTo>
                  <a:pt x="115" y="1660"/>
                  <a:pt x="72" y="1657"/>
                  <a:pt x="19" y="1639"/>
                </a:cubicBezTo>
                <a:cubicBezTo>
                  <a:pt x="7" y="1591"/>
                  <a:pt x="0" y="1581"/>
                  <a:pt x="19" y="1520"/>
                </a:cubicBezTo>
                <a:cubicBezTo>
                  <a:pt x="29" y="1486"/>
                  <a:pt x="105" y="1413"/>
                  <a:pt x="138" y="1401"/>
                </a:cubicBezTo>
                <a:cubicBezTo>
                  <a:pt x="198" y="1379"/>
                  <a:pt x="337" y="1384"/>
                  <a:pt x="357" y="1383"/>
                </a:cubicBezTo>
                <a:cubicBezTo>
                  <a:pt x="368" y="1366"/>
                  <a:pt x="372" y="1344"/>
                  <a:pt x="385" y="1328"/>
                </a:cubicBezTo>
                <a:cubicBezTo>
                  <a:pt x="392" y="1320"/>
                  <a:pt x="404" y="1317"/>
                  <a:pt x="412" y="1310"/>
                </a:cubicBezTo>
                <a:cubicBezTo>
                  <a:pt x="428" y="1297"/>
                  <a:pt x="438" y="1280"/>
                  <a:pt x="449" y="1264"/>
                </a:cubicBezTo>
                <a:cubicBezTo>
                  <a:pt x="446" y="1227"/>
                  <a:pt x="449" y="1190"/>
                  <a:pt x="439" y="1154"/>
                </a:cubicBezTo>
                <a:cubicBezTo>
                  <a:pt x="436" y="1142"/>
                  <a:pt x="419" y="1138"/>
                  <a:pt x="412" y="1127"/>
                </a:cubicBezTo>
                <a:cubicBezTo>
                  <a:pt x="407" y="1119"/>
                  <a:pt x="406" y="1108"/>
                  <a:pt x="403" y="1099"/>
                </a:cubicBezTo>
                <a:cubicBezTo>
                  <a:pt x="406" y="1021"/>
                  <a:pt x="379" y="891"/>
                  <a:pt x="449" y="825"/>
                </a:cubicBezTo>
                <a:cubicBezTo>
                  <a:pt x="464" y="766"/>
                  <a:pt x="503" y="719"/>
                  <a:pt x="522" y="661"/>
                </a:cubicBezTo>
                <a:cubicBezTo>
                  <a:pt x="527" y="506"/>
                  <a:pt x="454" y="289"/>
                  <a:pt x="613" y="395"/>
                </a:cubicBezTo>
                <a:cubicBezTo>
                  <a:pt x="608" y="591"/>
                  <a:pt x="642" y="738"/>
                  <a:pt x="558" y="898"/>
                </a:cubicBezTo>
                <a:cubicBezTo>
                  <a:pt x="544" y="956"/>
                  <a:pt x="517" y="1009"/>
                  <a:pt x="549" y="1072"/>
                </a:cubicBezTo>
                <a:cubicBezTo>
                  <a:pt x="558" y="1089"/>
                  <a:pt x="604" y="1090"/>
                  <a:pt x="604" y="1090"/>
                </a:cubicBezTo>
                <a:cubicBezTo>
                  <a:pt x="625" y="1087"/>
                  <a:pt x="657" y="1099"/>
                  <a:pt x="668" y="1081"/>
                </a:cubicBezTo>
                <a:cubicBezTo>
                  <a:pt x="711" y="1011"/>
                  <a:pt x="638" y="959"/>
                  <a:pt x="714" y="935"/>
                </a:cubicBezTo>
                <a:cubicBezTo>
                  <a:pt x="723" y="926"/>
                  <a:pt x="730" y="914"/>
                  <a:pt x="741" y="907"/>
                </a:cubicBezTo>
                <a:cubicBezTo>
                  <a:pt x="784" y="878"/>
                  <a:pt x="760" y="924"/>
                  <a:pt x="778" y="871"/>
                </a:cubicBezTo>
                <a:cubicBezTo>
                  <a:pt x="768" y="782"/>
                  <a:pt x="775" y="816"/>
                  <a:pt x="764" y="76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4114800"/>
            <a:ext cx="373392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er 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5 sm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 ≠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n a way 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sist of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some of the sam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reate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4640" y="5105520"/>
            <a:ext cx="43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th are coo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unique about spatial inf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an attribute to a location, without losing the ability to be structured, to be operated upon, to be transformed, and to be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epresentation of 3d space onto 2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eople are working on leaping into 3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attrib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s are most common, and relate directly to research methods (570 anyon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7032600" cy="2089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87480" y="5943600"/>
            <a:ext cx="21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:  Geog 360, Nick Chri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724280" cy="3273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43600" y="2057400"/>
            <a:ext cx="220968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3941 Univ. W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H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4545 Bld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cademic Computer Ce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-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erodynamics L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-O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erospace Research Bld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-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llen Libr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lumni Hou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-I</a:t>
            </a:r>
            <a:br>
              <a:rPr sz="1000"/>
            </a:b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derson Ha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4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rchitecture Ha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rchives and Recor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-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t Bldg6-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ospheric Sciences-Geophysics 12-L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ley Hall12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mer Hall5-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on Hall13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5491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and t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nterface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he underlying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etty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02:30:29Z</dcterms:created>
  <dc:creator>Information School</dc:creator>
  <dc:description/>
  <dc:language>en-US</dc:language>
  <cp:lastModifiedBy>Information School</cp:lastModifiedBy>
  <dcterms:modified xsi:type="dcterms:W3CDTF">2002-02-26T05:16:01Z</dcterms:modified>
  <cp:revision>15</cp:revision>
  <dc:subject/>
  <dc:title>Intro to Geospatial Data</dc:title>
</cp:coreProperties>
</file>